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9A07-A27D-416D-B941-9B03DF73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9C08-3A1B-4FB2-B965-64ACA16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EE41-49D5-4DE2-8131-32447824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922F-62A9-4ED8-9D59-E038411A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79D6-976B-4324-A89E-88B43629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5B4B-F1AE-4AC8-A7F4-3A0FEEFB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B90-27E5-4E0B-BA52-471C94BB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D90-F8D1-4870-B340-6DF9F19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231-2278-4B70-8EC4-332DCC86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A17-FF9E-4E44-91BD-CC529E8D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8E9-53E4-4A73-AACA-F857598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51C4-BAAF-45B6-B009-984015E1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756-D043-484B-B7C8-2BAF4FB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F588-2B9E-4783-8C29-14F762B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AAA-2640-47E2-8F3B-4B10F39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2120-54D1-4BCE-9521-49EA3A2E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75E-86FC-4624-88FF-4EC37B0E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41A3-477E-4E69-9E58-383B11C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6307-7ADF-42C0-A337-33A99BD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A9BF-71E8-4617-BCD0-16D6543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5228-CD72-4005-A2B2-34509359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7F1A-CC06-4D42-BD02-AFD6014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22CA-8BFA-4A54-8F60-0337178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CEBE-4DB2-4F3C-B334-5579124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7A8-B617-40C0-BA46-52485FDE79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14EB-4699-41C0-BCAB-AF7AC4321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Segoe Print"/>
              </a:rPr>
              <a:t>The Pardoner’s Tal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2057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ype of Story:  Moral T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ype of Iron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Print"/>
              </a:rPr>
              <a:t>Situational – The rioters seek death, and they end up killing each other.  The Pardoner preaches against greed, but he is greedy himsel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Print"/>
              </a:rPr>
              <a:t>Dramatic – We know what the rioters plan, but they do not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Personification:  Death, Fortu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Symbolism:  Old man = death; money = gr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Irony: Lines 176-177  “Who would have thought this morning was to be our lucky day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Satire:  People claim to be religious, but they often use their positions to take advantage of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Message/Theme:  Greed often leads to downfall and destr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Cliché:  The love of money is the root of all evi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he Pardoner’s personality:  Greedy, manipulative, hypocrit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6:02:30Z</dcterms:created>
  <dc:creator>Trina</dc:creator>
  <dc:description/>
  <dc:language>en-US</dc:language>
  <cp:lastModifiedBy>Trina</cp:lastModifiedBy>
  <dcterms:modified xsi:type="dcterms:W3CDTF">2008-09-22T16:13:49Z</dcterms:modified>
  <cp:revision>2</cp:revision>
  <dc:subject/>
  <dc:title>The Pardoner’s Tale</dc:title>
</cp:coreProperties>
</file>